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BAA-3752-41AC-9241-8B3C5AB6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F1E-45F4-4C52-A736-7A262680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258-3357-4F89-9B13-EA317695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706-6EA4-42D4-BA09-605F0146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FC1-950E-43F6-BD19-AEF2E07F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843-A60B-4803-9837-E9FA4526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93B-927C-4D60-AB60-0F538675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B95-32DD-410D-ACE2-034ADCB0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E3D-A06F-46C9-9E0A-E5248EF0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3A1-CBE4-4904-ACE6-6A711371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A13-1F2E-4426-BBB8-72EA800A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72A-D746-4E88-BA9B-3064D61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5BDE-FF31-425E-8B89-A69CD045CE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Multiplicative inverse and solving matrix equation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6D, Q.10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16D, Q.1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ultiplicative inverse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y number multiplied by its reciprocal equals 1, e.g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ame occurs in matrices: if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n           is called the multiplicative inverse of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3286080" y="2000160"/>
          <a:ext cx="109368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000160"/>
                    <a:ext cx="10936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3"/>
          <p:cNvGraphicFramePr/>
          <p:nvPr/>
        </p:nvGraphicFramePr>
        <p:xfrm>
          <a:off x="6357960" y="4357800"/>
          <a:ext cx="20001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7960" y="4357800"/>
                    <a:ext cx="20001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4"/>
          <p:cNvGraphicFramePr/>
          <p:nvPr/>
        </p:nvGraphicFramePr>
        <p:xfrm>
          <a:off x="1857240" y="4929120"/>
          <a:ext cx="71460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4929120"/>
                    <a:ext cx="714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Inverse of a 2 x 2 matrix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n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value of                   is known as the determinant of matrix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and can be written as det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or       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928880" y="1500120"/>
            <a:ext cx="1143000" cy="860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857680" y="2643120"/>
            <a:ext cx="2781000" cy="866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3214800" y="4000680"/>
            <a:ext cx="1209600" cy="475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2786040" y="4929120"/>
            <a:ext cx="549360" cy="571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6D, Q.1, 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6D, Q. 4, 5, 8, 9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Singular matrix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matrix that has a determinant of zero, has no inverse and is called a singular matrix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atrix equation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Remember that in an equation such a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4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x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=9, we need to divide both sides by 4 (or multiply both sides by ¼) to obtain the answer,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x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9/</a:t>
            </a:r>
            <a:r>
              <a:rPr b="0" lang="en-AU" sz="2000" spc="-1" strike="noStrike">
                <a:solidFill>
                  <a:srgbClr val="000000"/>
                </a:solidFill>
                <a:latin typeface="Cambria Math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e solve matrix equations the same way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we want to solve AX = B for X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Pre-multiply both sides by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    (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= I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 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    (IX = X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we want to solve XA = B for X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Post-multiply both sides by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A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 B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I = B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(A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 I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 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 = B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(XI = X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AX = B, then 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XA = B, then X = B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1:10:52Z</dcterms:created>
  <dc:creator>08843474</dc:creator>
  <dc:description/>
  <dc:language>en-US</dc:language>
  <cp:lastModifiedBy>08843474</cp:lastModifiedBy>
  <dcterms:modified xsi:type="dcterms:W3CDTF">2011-05-16T08:18:26Z</dcterms:modified>
  <cp:revision>2</cp:revision>
  <dc:subject/>
  <dc:title>Matrices</dc:title>
</cp:coreProperties>
</file>